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0520" y="747720"/>
            <a:ext cx="49575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l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7BEFF-0294-49BC-97BA-2EBD96727934}" type="slidenum"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2221DD-FF17-478F-9E2E-0153F9C29F9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45C95A-3A39-46E7-B916-E29F8AC701D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122C77-EF84-49F0-A803-63264C8CD201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Misschi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29FBD0-A485-479A-8BBF-1B08758C5CB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Hier dan zeker zeggen dat er naast de module waar wij op focussen ook nog een specifieke opleiding is voor leidinggeve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429B5-2B6A-4CCD-9D0B-811D09E2E8B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2124000" y="6524640"/>
            <a:ext cx="7020000" cy="179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6351480"/>
            <a:ext cx="2124000" cy="17964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E46-175E-4D10-A09C-3680D8567AC6}" type="datetime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</a:t>
            </a:r>
            <a:fld id="{F2308D12-76D3-4894-B536-FAA6A112578B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4" descr="VUB_logo_VTK"/>
          <p:cNvPicPr/>
          <p:nvPr/>
        </p:nvPicPr>
        <p:blipFill>
          <a:blip r:embed="rId2"/>
          <a:stretch/>
        </p:blipFill>
        <p:spPr>
          <a:xfrm>
            <a:off x="231840" y="208080"/>
            <a:ext cx="984240" cy="1392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6" descr="torlogo_zw"/>
          <p:cNvPicPr/>
          <p:nvPr/>
        </p:nvPicPr>
        <p:blipFill>
          <a:blip r:embed="rId3"/>
          <a:stretch/>
        </p:blipFill>
        <p:spPr>
          <a:xfrm>
            <a:off x="1467000" y="209520"/>
            <a:ext cx="8715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516720" y="1488960"/>
            <a:ext cx="2627280" cy="863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843200" y="2349360"/>
            <a:ext cx="4673520" cy="216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logoPPTp[3]"/>
          <p:cNvPicPr/>
          <p:nvPr/>
        </p:nvPicPr>
        <p:blipFill>
          <a:blip r:embed="rId2"/>
          <a:stretch/>
        </p:blipFill>
        <p:spPr>
          <a:xfrm>
            <a:off x="409680" y="162000"/>
            <a:ext cx="6081480" cy="194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-5040" y="6557760"/>
            <a:ext cx="20667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AA3-9FD7-4E1B-97A5-263A0893C96B}" type="datetime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 </a:t>
            </a:r>
            <a:fld id="{F8F672DD-70B2-46A9-9F4B-CF4BDFBEDAEB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flemishpeaceinstitute.eu/sites/vlaamsvredesinstituut.eu/files/files/reports/can_peace_be_taught_revised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-4680" y="6558120"/>
            <a:ext cx="2066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12E-60A4-4A2D-B97B-E6CB59FFB1E6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 </a:t>
            </a:r>
            <a:fld id="{70B30C03-A962-45DA-A9E6-4C18D2E54DF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738520"/>
            <a:ext cx="767700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Optimization study Holocaust, Police and Human Rights program: a brief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42840" y="4193640"/>
            <a:ext cx="647388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ram Spruy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ociology Departmen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Research group TOR (www.vub.ac.be/TOR) 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97" name="Picture 5" descr="torlogo_zw"/>
          <p:cNvPicPr/>
          <p:nvPr/>
        </p:nvPicPr>
        <p:blipFill>
          <a:blip r:embed="rId1"/>
          <a:stretch/>
        </p:blipFill>
        <p:spPr>
          <a:xfrm>
            <a:off x="201600" y="754200"/>
            <a:ext cx="122544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Theoretical design and research ques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3F65-10ED-4816-B882-47C8A09CC78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55DC08F1-75C7-43F0-A9E6-34693EF9BE6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019160" y="1890720"/>
            <a:ext cx="76392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Holocaust, Police and Human Rights progr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628640"/>
            <a:ext cx="5430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e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within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group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between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group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among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coach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1 day training sess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No differentia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0E9-DD17-4B6A-8753-6AD025BA2CE5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D021DB8E-3541-4033-AA64-CDB2682CC5BC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6575400" y="1725480"/>
            <a:ext cx="240516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What are the implications of this combin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Brace 8"/>
          <p:cNvSpPr/>
          <p:nvPr/>
        </p:nvSpPr>
        <p:spPr>
          <a:xfrm>
            <a:off x="5899320" y="2174760"/>
            <a:ext cx="514080" cy="4133880"/>
          </a:xfrm>
          <a:custGeom>
            <a:avLst/>
            <a:gdLst>
              <a:gd name="textAreaLeft" fmla="*/ 0 w 514080"/>
              <a:gd name="textAreaRight" fmla="*/ 185760 w 514080"/>
              <a:gd name="textAreaTop" fmla="*/ 13320 h 4133880"/>
              <a:gd name="textAreaBottom" fmla="*/ 4120560 h 41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2"/>
                  <a:pt x="10800" y="224"/>
                </a:cubicBezTo>
                <a:lnTo>
                  <a:pt x="10800" y="10576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2"/>
                  <a:pt x="10800" y="11024"/>
                </a:cubicBezTo>
                <a:lnTo>
                  <a:pt x="10800" y="21376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Research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level (participants/coaches nested in sessions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-actor (participants and coaches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Longitudinal (pretest, post-test, postpost-test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ple outcom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ossible to find a suitable control group (some compensation by the heterogeneity of the target population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6215-EC57-4064-868B-B2CD8A9E807C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213EF210-0F38-4FAB-B464-5008DC2B5C6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Empirical Research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FB7-7B18-409A-ACDC-C79C3866071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9430A921-AF9C-4596-8B6C-34EBDF10FBF6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2960" y="1673280"/>
            <a:ext cx="7870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ield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iming February 2017 – December 2017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participants fill out questionnaire 1 (20-30min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participants are invited for questionnaire 2 (15 min.) and 3 (5 min.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team coaches fill out a short (5 min.; 2 pages) questionnaire about the session/group (questionnaire 4)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ach questionnaire consists of two components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Independent par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Contributing part of the impact study 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EA2-D8A9-4BFE-BF37-4CF102D9CCCE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3F3FD62B-2E65-4AC6-A360-F4DB8E339E87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inal though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What is impac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Along which mechanisms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do you want to have impac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Is it reasonable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nd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 feasible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o aim for a general impact regardless participant’s background characteristics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Need for closer collaboration between established fields of study rather than developing yet another hyper-specialized and separate field of study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C813-88D4-456B-9D7C-8B3708A9D95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30D42B23-E60E-43C9-ACB6-13DC73B260F7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urther read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Spruyt et al. (2014)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Can peace be taught? Researching the effectiveness of peace education.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Brussel: Flemish Peace Institute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Free available at: </a:t>
            </a:r>
            <a:r>
              <a:rPr b="0" lang="nl-B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flemishpeaceinstitute.eu/sites/vlaamsvredesinstituut.eu/files/files/reports/can_peace_be_taught_revised.pdf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250B-F21A-4F70-B71F-B1729733321B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19F1BE59-26C9-45EC-8307-104AFBBF0A3F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2014: Literature review study for the Flemish Peace Institute: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Researching the effectiveness of peace educa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wo objectives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Study the feasibility and implications of effectiveness research of peace education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Inventory the findings of existing effectiveness research in this field.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81E0-2547-442A-A9E2-626C6C30EE93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0CEA5763-78DB-435F-865A-C95923F586ED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1905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Peace edu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6400" y="118080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here will be no preparedness for peace without systematic peace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education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(Wintersteiner, 2010: 57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57FB-3F1A-4150-A592-3D427B3A3809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49206EB8-A2B0-4FCD-BFEF-257927380D3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044800" y="2052720"/>
            <a:ext cx="5076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99B-69BD-4675-BEA9-6D24D245925E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2EABBBD0-BF38-4C6E-885D-BA61D351EA25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s://pbs.twimg.com/media/B3xiiVVIcAIAkxk.jpg"/>
          <p:cNvPicPr/>
          <p:nvPr/>
        </p:nvPicPr>
        <p:blipFill>
          <a:blip r:embed="rId1"/>
          <a:stretch/>
        </p:blipFill>
        <p:spPr>
          <a:xfrm>
            <a:off x="100080" y="187200"/>
            <a:ext cx="8893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Continuous improv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1C67-FB99-4E57-BD1D-B74D35E94D44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ED3CA8C7-2EF2-4469-956A-20601D80BC6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xisting means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valuation for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Debrief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One step further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Optimalisation stud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rcRect l="0" t="9018" r="0" b="6528"/>
          <a:stretch/>
        </p:blipFill>
        <p:spPr>
          <a:xfrm>
            <a:off x="3757680" y="1598760"/>
            <a:ext cx="53863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1628640"/>
            <a:ext cx="848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act research vs. perception research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Unless we know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why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it works, we cannot proove it does work (i.e. the importance of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process variables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act on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whom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and under which conditions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Lasting effects vs. lack of monopoly of influence over people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4C7E-5CF1-4642-9AB9-9BCBDDD82354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FCD3B9E7-299A-4C5C-ABED-CF6AC640A1A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3600" y="-9720"/>
            <a:ext cx="671040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Current issues in effectiveness research in pea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Holocaust, Police and Human Rights, Belgiu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7400" y="2937960"/>
            <a:ext cx="857412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Target popula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members of the integrated polic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Special atten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Trainers recruited in the target popul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  <a:ea typeface="Segoe UI"/>
              </a:rPr>
              <a:t>Focu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  <a:ea typeface="Segoe UI"/>
              </a:rPr>
              <a:t>: “If you can recognize the slippery slope towards collective violence, you will be more willing to fight it.”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Pedagogy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Rememberance education as a key concept / cooper model applied to real life cas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B70-1DFF-4D64-A068-7F5F0EADFE32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F08A1C63-10A8-413D-B66F-342CB586F4CD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fbeelding 5" descr=""/>
          <p:cNvPicPr/>
          <p:nvPr/>
        </p:nvPicPr>
        <p:blipFill>
          <a:blip r:embed="rId1"/>
          <a:stretch/>
        </p:blipFill>
        <p:spPr>
          <a:xfrm>
            <a:off x="1368360" y="1825560"/>
            <a:ext cx="1522440" cy="88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KazerneDossin_logo_N"/>
          <p:cNvPicPr/>
          <p:nvPr/>
        </p:nvPicPr>
        <p:blipFill>
          <a:blip r:embed="rId2"/>
          <a:stretch/>
        </p:blipFill>
        <p:spPr>
          <a:xfrm>
            <a:off x="4059360" y="171756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6602400" y="1631880"/>
            <a:ext cx="1324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Main goals: fostering ethical compet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he participant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Understands discrimination and exclus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s aware of the scope to say NO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Has the skills to analyse a situation in an autonomous and critical wa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s motivated to react according to his or her own ethical conviction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629-0802-45E6-9D57-64F6A8D30770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A8EC1700-CD8E-47B0-826D-641DDD3F4F8D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EC4-2AAF-46B9-94CC-3B71CCA81135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157F31A0-B7F4-4860-B823-6DD9528E2F93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6"/>
          <p:cNvSpPr/>
          <p:nvPr/>
        </p:nvSpPr>
        <p:spPr>
          <a:xfrm>
            <a:off x="331920" y="2050920"/>
            <a:ext cx="35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08.30 – 09.15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Introduction (fi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09.15 – 12.0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Visit museum and mem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12.00 – 13.0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13.00 – 16.3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Debriefing visit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    </a:t>
            </a: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708360" y="2050920"/>
            <a:ext cx="5113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39:43Z</dcterms:created>
  <dc:creator>Anton Derks</dc:creator>
  <dc:description/>
  <dc:language>en-US</dc:language>
  <cp:lastModifiedBy>Isabelle Diependaele</cp:lastModifiedBy>
  <cp:lastPrinted>2017-11-05T13:22:43Z</cp:lastPrinted>
  <dcterms:modified xsi:type="dcterms:W3CDTF">2017-12-11T15:06:11Z</dcterms:modified>
  <cp:revision>154</cp:revision>
  <dc:subject/>
  <dc:title>Titel van de presentatie</dc:title>
</cp:coreProperties>
</file>