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9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20520" y="747720"/>
            <a:ext cx="49575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41760" cy="4465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5128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nl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9E10A82-C97E-4424-AA0E-3085C58AD3CC}" type="slidenum"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5128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B45A75-5DFB-4795-89B3-EABE9930F00A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417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417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5128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8CF8C1-E9F2-4E42-B776-0EC40889DB1D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417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5128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7C8422-FCDF-441A-A254-AE7A2D2771FF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41760" cy="4465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Misschi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5128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61E570F-F514-4BE5-8DEB-02A23BB6BCA8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41760" cy="4465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Hier dan zeker zeggen dat er naast de module waar wij op focussen ook nog een specifieke opleiding is voor leidinggeven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5128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4B4A86-7392-4C13-8617-842EE2083BAC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40730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40730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40730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40730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40730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40730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879280" y="-9720"/>
            <a:ext cx="626436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40730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5400" y="40730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0730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360" y="40730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360" y="40730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5400" y="40730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360" y="40730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50800" y="40730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3240" y="407304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79280" y="-9720"/>
            <a:ext cx="626436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40730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40730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40730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524640"/>
            <a:ext cx="9144000" cy="360360"/>
          </a:xfrm>
          <a:prstGeom prst="rect">
            <a:avLst/>
          </a:prstGeom>
          <a:solidFill>
            <a:srgbClr val="abb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8"/>
          <p:cNvSpPr/>
          <p:nvPr/>
        </p:nvSpPr>
        <p:spPr>
          <a:xfrm>
            <a:off x="2124000" y="6524640"/>
            <a:ext cx="7020000" cy="17928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6351480"/>
            <a:ext cx="2124000" cy="179640"/>
          </a:xfrm>
          <a:prstGeom prst="rect">
            <a:avLst/>
          </a:prstGeom>
          <a:solidFill>
            <a:srgbClr val="abb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3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3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3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Times New Roman"/>
              </a:rPr>
              <a:t>Titel van de presenta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BA29-6A15-4394-B302-7BB4C4C52D03}" type="datetime">
              <a:rPr b="0" lang="nl-BE" sz="10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Times New Roman"/>
              </a:rPr>
              <a:t>   |   pag. </a:t>
            </a:r>
            <a:fld id="{9298639A-947A-4AA8-A7C0-30A413147F5B}" type="slidenum">
              <a:rPr b="0" lang="nl-B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24" descr="VUB_logo_VTK"/>
          <p:cNvPicPr/>
          <p:nvPr/>
        </p:nvPicPr>
        <p:blipFill>
          <a:blip r:embed="rId2"/>
          <a:stretch/>
        </p:blipFill>
        <p:spPr>
          <a:xfrm>
            <a:off x="231840" y="208080"/>
            <a:ext cx="984240" cy="13921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6" descr="torlogo_zw"/>
          <p:cNvPicPr/>
          <p:nvPr/>
        </p:nvPicPr>
        <p:blipFill>
          <a:blip r:embed="rId3"/>
          <a:stretch/>
        </p:blipFill>
        <p:spPr>
          <a:xfrm>
            <a:off x="1467000" y="209520"/>
            <a:ext cx="87156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/>
          <p:cNvSpPr/>
          <p:nvPr/>
        </p:nvSpPr>
        <p:spPr>
          <a:xfrm>
            <a:off x="0" y="2349360"/>
            <a:ext cx="9144000" cy="4508640"/>
          </a:xfrm>
          <a:prstGeom prst="rect">
            <a:avLst/>
          </a:prstGeom>
          <a:solidFill>
            <a:srgbClr val="8c8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6516720" y="1488960"/>
            <a:ext cx="2627280" cy="863640"/>
          </a:xfrm>
          <a:prstGeom prst="rect">
            <a:avLst/>
          </a:prstGeom>
          <a:solidFill>
            <a:srgbClr val="8c8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1843200" y="2349360"/>
            <a:ext cx="4673520" cy="216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logoPPTp[3]"/>
          <p:cNvPicPr/>
          <p:nvPr/>
        </p:nvPicPr>
        <p:blipFill>
          <a:blip r:embed="rId2"/>
          <a:stretch/>
        </p:blipFill>
        <p:spPr>
          <a:xfrm>
            <a:off x="409680" y="162000"/>
            <a:ext cx="6081480" cy="1942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3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3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3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2"/>
          </p:nvPr>
        </p:nvSpPr>
        <p:spPr>
          <a:xfrm>
            <a:off x="-5040" y="6557760"/>
            <a:ext cx="20667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8DF7-3D7D-4F8A-BBA8-A44652B8607A}" type="datetime">
              <a:rPr b="0" lang="nl-BE" sz="10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Times New Roman"/>
              </a:rPr>
              <a:t>   |   pag.  </a:t>
            </a:r>
            <a:fld id="{CF4635C6-B154-4188-A700-D06EF140BA9A}" type="slidenum">
              <a:rPr b="0" lang="nl-B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nl-B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www.flemishpeaceinstitute.eu/sites/vlaamsvredesinstituut.eu/files/files/reports/can_peace_be_taught_revised.pdf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-4680" y="6558120"/>
            <a:ext cx="2066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73C9-58ED-47B6-9966-8FC7DB739914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|   pag.  </a:t>
            </a:r>
            <a:fld id="{17051DB7-8BC5-4EEB-A442-65A61B665036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2738520"/>
            <a:ext cx="7677000" cy="18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Optimization study Holocaust, Police and Human Rights program: a brief 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842840" y="4193640"/>
            <a:ext cx="6473880" cy="18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Bram Spruyt</a:t>
            </a:r>
            <a:endParaRPr b="0" lang="en-US" sz="2000" spc="-1" strike="noStrike">
              <a:solidFill>
                <a:srgbClr val="5f604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Sociology Department</a:t>
            </a:r>
            <a:endParaRPr b="0" lang="en-US" sz="2000" spc="-1" strike="noStrike">
              <a:solidFill>
                <a:srgbClr val="5f604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Research group TOR (www.vub.ac.be/TOR) </a:t>
            </a:r>
            <a:endParaRPr b="0" lang="en-US" sz="2000" spc="-1" strike="noStrike">
              <a:solidFill>
                <a:srgbClr val="5f604a"/>
              </a:solidFill>
              <a:latin typeface="Arial"/>
            </a:endParaRPr>
          </a:p>
        </p:txBody>
      </p:sp>
      <p:pic>
        <p:nvPicPr>
          <p:cNvPr id="97" name="Picture 5" descr="torlogo_zw"/>
          <p:cNvPicPr/>
          <p:nvPr/>
        </p:nvPicPr>
        <p:blipFill>
          <a:blip r:embed="rId1"/>
          <a:stretch/>
        </p:blipFill>
        <p:spPr>
          <a:xfrm>
            <a:off x="201600" y="754200"/>
            <a:ext cx="1225440" cy="85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ffffff"/>
                </a:solidFill>
                <a:latin typeface="Arial"/>
              </a:rPr>
              <a:t>Theoretical design and research question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Titel van de present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32FD-AE40-47AB-864F-EF04AA5DAEBF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|   pag. </a:t>
            </a:r>
            <a:fld id="{3735F475-0BFD-4684-8187-91C8E29DDE71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1019160" y="1890720"/>
            <a:ext cx="763920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ffffff"/>
                </a:solidFill>
                <a:latin typeface="Arial"/>
              </a:rPr>
              <a:t>Holocaust, Police and Human Rights progra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1628640"/>
            <a:ext cx="54309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5f604a"/>
                </a:solidFill>
                <a:latin typeface="Arial"/>
              </a:rPr>
              <a:t>Hetereogeneity </a:t>
            </a:r>
            <a:r>
              <a:rPr b="0" i="1" lang="nl-BE" sz="2800" spc="-1" strike="noStrike">
                <a:solidFill>
                  <a:srgbClr val="5f604a"/>
                </a:solidFill>
                <a:latin typeface="Arial"/>
              </a:rPr>
              <a:t>within</a:t>
            </a:r>
            <a:r>
              <a:rPr b="0" lang="nl-BE" sz="2800" spc="-1" strike="noStrike">
                <a:solidFill>
                  <a:srgbClr val="5f604a"/>
                </a:solidFill>
                <a:latin typeface="Arial"/>
              </a:rPr>
              <a:t> group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5f604a"/>
                </a:solidFill>
                <a:latin typeface="Arial"/>
              </a:rPr>
              <a:t>Heterogeneity </a:t>
            </a:r>
            <a:r>
              <a:rPr b="0" i="1" lang="nl-BE" sz="2800" spc="-1" strike="noStrike">
                <a:solidFill>
                  <a:srgbClr val="5f604a"/>
                </a:solidFill>
                <a:latin typeface="Arial"/>
              </a:rPr>
              <a:t>between</a:t>
            </a:r>
            <a:r>
              <a:rPr b="0" lang="nl-BE" sz="2800" spc="-1" strike="noStrike">
                <a:solidFill>
                  <a:srgbClr val="5f604a"/>
                </a:solidFill>
                <a:latin typeface="Arial"/>
              </a:rPr>
              <a:t> group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5f604a"/>
                </a:solidFill>
                <a:latin typeface="Arial"/>
              </a:rPr>
              <a:t>Heterogeneity </a:t>
            </a:r>
            <a:r>
              <a:rPr b="0" i="1" lang="nl-BE" sz="2800" spc="-1" strike="noStrike">
                <a:solidFill>
                  <a:srgbClr val="5f604a"/>
                </a:solidFill>
                <a:latin typeface="Arial"/>
              </a:rPr>
              <a:t>among</a:t>
            </a:r>
            <a:r>
              <a:rPr b="0" lang="nl-BE" sz="2800" spc="-1" strike="noStrike">
                <a:solidFill>
                  <a:srgbClr val="5f604a"/>
                </a:solidFill>
                <a:latin typeface="Arial"/>
              </a:rPr>
              <a:t> coache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5f604a"/>
                </a:solidFill>
                <a:latin typeface="Arial"/>
              </a:rPr>
              <a:t>1 day training session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5f604a"/>
                </a:solidFill>
                <a:latin typeface="Arial"/>
              </a:rPr>
              <a:t>No differentiation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32" name="Date Placeholder 3"/>
          <p:cNvSpPr/>
          <p:nvPr/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Titel van de present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6640-DD5C-4E95-BEFD-9A035A962074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|   pag. </a:t>
            </a:r>
            <a:fld id="{A36CA8C7-5FBF-44CD-A344-3538B02962EF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6575400" y="1725480"/>
            <a:ext cx="2405160" cy="33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5f604a"/>
                </a:solidFill>
                <a:latin typeface="Arial"/>
              </a:rPr>
              <a:t>What are the implications of this combin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ight Brace 8"/>
          <p:cNvSpPr/>
          <p:nvPr/>
        </p:nvSpPr>
        <p:spPr>
          <a:xfrm>
            <a:off x="5899320" y="2174760"/>
            <a:ext cx="514080" cy="4133880"/>
          </a:xfrm>
          <a:custGeom>
            <a:avLst/>
            <a:gdLst>
              <a:gd name="textAreaLeft" fmla="*/ 0 w 514080"/>
              <a:gd name="textAreaRight" fmla="*/ 185760 w 514080"/>
              <a:gd name="textAreaTop" fmla="*/ 13320 h 4133880"/>
              <a:gd name="textAreaBottom" fmla="*/ 4120560 h 413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2"/>
                  <a:pt x="10800" y="224"/>
                </a:cubicBezTo>
                <a:lnTo>
                  <a:pt x="10800" y="10576"/>
                </a:lnTo>
                <a:cubicBezTo>
                  <a:pt x="10800" y="10688"/>
                  <a:pt x="16200" y="10800"/>
                  <a:pt x="21600" y="10800"/>
                </a:cubicBezTo>
                <a:cubicBezTo>
                  <a:pt x="16200" y="10800"/>
                  <a:pt x="10800" y="10912"/>
                  <a:pt x="10800" y="11024"/>
                </a:cubicBezTo>
                <a:lnTo>
                  <a:pt x="10800" y="21376"/>
                </a:lnTo>
                <a:cubicBezTo>
                  <a:pt x="10800" y="21488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ffffff"/>
                </a:solidFill>
                <a:latin typeface="Arial"/>
              </a:rPr>
              <a:t>Research desig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Multilevel (participants/coaches nested in sessions)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Multi-actor (participants and coaches)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Longitudinal (pretest, post-test, postpost-test)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Multiple outcome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Impossible to find a suitable control group (some compensation by the heterogeneity of the target population)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Titel van de present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683F-12F7-415F-902C-4510D000D897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|   pag. </a:t>
            </a:r>
            <a:fld id="{51E6E0F8-15F1-43C2-A94F-DD4ADBEF6792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ffffff"/>
                </a:solidFill>
                <a:latin typeface="Arial"/>
              </a:rPr>
              <a:t>Empirical Research Desig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Date Placeholder 3"/>
          <p:cNvSpPr/>
          <p:nvPr/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Titel van de present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9141-A2D5-4906-BD98-EBAAD2796410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|   pag. </a:t>
            </a:r>
            <a:fld id="{481E6167-990D-413E-98F2-6D83063FE6EE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42960" y="1673280"/>
            <a:ext cx="787068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ffffff"/>
                </a:solidFill>
                <a:latin typeface="Arial"/>
              </a:rPr>
              <a:t>Fieldwork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Timing February 2017 – December 2017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All participants fill out questionnaire 1 (20-30min)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All participants are invited for questionnaire 2 (15 min.) and 3 (5 min.)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All team coaches fill out a short (5 min.; 2 pages) questionnaire about the session/group (questionnaire 4).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Each questionnaire consists of two components: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f604a"/>
                </a:solidFill>
                <a:latin typeface="Arial"/>
              </a:rPr>
              <a:t>Independent part</a:t>
            </a:r>
            <a:endParaRPr b="0" lang="en-US" sz="20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f604a"/>
                </a:solidFill>
                <a:latin typeface="Arial"/>
              </a:rPr>
              <a:t>Contributing part of the impact study </a:t>
            </a:r>
            <a:endParaRPr b="0" lang="en-US" sz="20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Titel van de present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B488-51FD-4409-AC88-7526FB29350F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|   pag. </a:t>
            </a:r>
            <a:fld id="{FDE6EFCF-072C-4B29-B6F9-D0BBFF3CF9D8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ffffff"/>
                </a:solidFill>
                <a:latin typeface="Arial"/>
              </a:rPr>
              <a:t>Final though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What is impact?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5f604a"/>
                </a:solidFill>
                <a:latin typeface="Arial"/>
              </a:rPr>
              <a:t>Along which mechanisms</a:t>
            </a: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 do you want to have impact?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5f604a"/>
                </a:solidFill>
                <a:latin typeface="Arial"/>
              </a:rPr>
              <a:t>Is it reasonable </a:t>
            </a: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and</a:t>
            </a:r>
            <a:r>
              <a:rPr b="0" i="1" lang="nl-BE" sz="2400" spc="-1" strike="noStrike">
                <a:solidFill>
                  <a:srgbClr val="5f604a"/>
                </a:solidFill>
                <a:latin typeface="Arial"/>
              </a:rPr>
              <a:t> feasible </a:t>
            </a: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to aim for a general impact regardless participant’s background characteristics?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Need for closer collaboration between established fields of study rather than developing yet another hyper-specialized and separate field of study.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46" name="Date Placeholder 3"/>
          <p:cNvSpPr/>
          <p:nvPr/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Titel van de present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E5AB-D7AC-4BEE-B884-7D1C61614927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|   pag. </a:t>
            </a:r>
            <a:fld id="{B168E29E-73BF-4B89-AA73-683A6EE5B85C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ffffff"/>
                </a:solidFill>
                <a:latin typeface="Arial"/>
              </a:rPr>
              <a:t>Further read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Spruyt et al. (2014) </a:t>
            </a:r>
            <a:r>
              <a:rPr b="0" i="1" lang="nl-BE" sz="2400" spc="-1" strike="noStrike">
                <a:solidFill>
                  <a:srgbClr val="5f604a"/>
                </a:solidFill>
                <a:latin typeface="Arial"/>
              </a:rPr>
              <a:t>Can peace be taught? Researching the effectiveness of peace education. </a:t>
            </a: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Brussel: Flemish Peace Institute 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Free available at: </a:t>
            </a:r>
            <a:r>
              <a:rPr b="0" lang="nl-B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flemishpeaceinstitute.eu/sites/vlaamsvredesinstituut.eu/files/files/reports/can_peace_be_taught_revised.pdf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Titel van de present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F1AE-B120-4989-B7F0-5082FEE8F885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|   pag. </a:t>
            </a:r>
            <a:fld id="{F6DD776F-F63B-4BA3-8370-93C82390BC58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2014: Literature review study for the Flemish Peace Institute: </a:t>
            </a:r>
            <a:r>
              <a:rPr b="0" i="1" lang="nl-BE" sz="2400" spc="-1" strike="noStrike">
                <a:solidFill>
                  <a:srgbClr val="5f604a"/>
                </a:solidFill>
                <a:latin typeface="Arial"/>
              </a:rPr>
              <a:t>Researching the effectiveness of peace education</a:t>
            </a: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Two objectives: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f604a"/>
                </a:solidFill>
                <a:latin typeface="Arial"/>
              </a:rPr>
              <a:t>Study the feasibility and implications of effectiveness research of peace education</a:t>
            </a:r>
            <a:endParaRPr b="0" lang="en-US" sz="20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f604a"/>
                </a:solidFill>
                <a:latin typeface="Arial"/>
              </a:rPr>
              <a:t>Inventory the findings of existing effectiveness research in this field.</a:t>
            </a:r>
            <a:endParaRPr b="0" lang="en-US" sz="20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Titel van de present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0CF2-1C67-4A52-8203-723E5E5426B0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|   pag. </a:t>
            </a:r>
            <a:fld id="{CCEDC191-9492-4CE5-A470-97094E69E864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1905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ffffff"/>
                </a:solidFill>
                <a:latin typeface="Arial"/>
              </a:rPr>
              <a:t>Peace educ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06400" y="118080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4a"/>
                </a:solidFill>
                <a:latin typeface="Arial"/>
              </a:rPr>
              <a:t>There will be no preparedness for peace without systematic peace </a:t>
            </a:r>
            <a:r>
              <a:rPr b="0" i="1" lang="nl-BE" sz="2400" spc="-1" strike="noStrike">
                <a:solidFill>
                  <a:srgbClr val="5f604a"/>
                </a:solidFill>
                <a:latin typeface="Arial"/>
              </a:rPr>
              <a:t>education </a:t>
            </a: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(Wintersteiner, 2010: 57)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03" name="Date Placeholder 3"/>
          <p:cNvSpPr/>
          <p:nvPr/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Titel van de present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8E82-836E-4B3C-B5AB-9FEC6A211347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|   pag. </a:t>
            </a:r>
            <a:fld id="{089EBF21-0D9F-41A9-ABC6-EDA9EC9F51A4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044800" y="2052720"/>
            <a:ext cx="507672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Titel van de present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3B52-0376-4060-9578-87FB05C5D579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|   pag. </a:t>
            </a:r>
            <a:fld id="{8B643405-9173-4DC2-8188-BB0C14A77C68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https://pbs.twimg.com/media/B3xiiVVIcAIAkxk.jpg"/>
          <p:cNvPicPr/>
          <p:nvPr/>
        </p:nvPicPr>
        <p:blipFill>
          <a:blip r:embed="rId1"/>
          <a:stretch/>
        </p:blipFill>
        <p:spPr>
          <a:xfrm>
            <a:off x="100080" y="187200"/>
            <a:ext cx="889308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ffffff"/>
                </a:solidFill>
                <a:latin typeface="Arial"/>
              </a:rPr>
              <a:t>Continuous improve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Date Placeholder 3"/>
          <p:cNvSpPr/>
          <p:nvPr/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Titel van de present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CCEB-DCC7-45EA-932A-932F3A027D4A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|   pag. </a:t>
            </a:r>
            <a:fld id="{0D6FF9C0-7AEA-4C41-BE84-AEA50C67894B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Existing means 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Evaluation form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Debriefing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Meeting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One step further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Optimalisation study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  <p:pic>
        <p:nvPicPr>
          <p:cNvPr id="110" name="Tijdelijke aanduiding voor inhoud 3" descr=""/>
          <p:cNvPicPr/>
          <p:nvPr/>
        </p:nvPicPr>
        <p:blipFill>
          <a:blip r:embed="rId1"/>
          <a:srcRect l="0" t="9018" r="0" b="6528"/>
          <a:stretch/>
        </p:blipFill>
        <p:spPr>
          <a:xfrm>
            <a:off x="3757680" y="1598760"/>
            <a:ext cx="538632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68000" y="1628640"/>
            <a:ext cx="8488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Impact research vs. perception research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Unless we know </a:t>
            </a:r>
            <a:r>
              <a:rPr b="0" i="1" lang="nl-BE" sz="2400" spc="-1" strike="noStrike">
                <a:solidFill>
                  <a:srgbClr val="5f604a"/>
                </a:solidFill>
                <a:latin typeface="Arial"/>
              </a:rPr>
              <a:t>why</a:t>
            </a: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 it works, we cannot proove it does work (i.e. the importance of </a:t>
            </a:r>
            <a:r>
              <a:rPr b="0" i="1" lang="nl-BE" sz="2400" spc="-1" strike="noStrike">
                <a:solidFill>
                  <a:srgbClr val="5f604a"/>
                </a:solidFill>
                <a:latin typeface="Arial"/>
              </a:rPr>
              <a:t>process variables</a:t>
            </a: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Impact on </a:t>
            </a:r>
            <a:r>
              <a:rPr b="0" i="1" lang="nl-BE" sz="2400" spc="-1" strike="noStrike">
                <a:solidFill>
                  <a:srgbClr val="5f604a"/>
                </a:solidFill>
                <a:latin typeface="Arial"/>
              </a:rPr>
              <a:t>whom</a:t>
            </a: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 and under which conditions? 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Lasting effects vs. lack of monopoly of influence over people 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Titel van de present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F395-9F50-4C7D-A976-5EDF918246FC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|   pag. </a:t>
            </a:r>
            <a:fld id="{898BB097-8D6A-4107-BAB8-9730086C1044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3600" y="-9720"/>
            <a:ext cx="671040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Current issues in effectiveness research in peace 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ffffff"/>
                </a:solidFill>
                <a:latin typeface="Arial"/>
              </a:rPr>
              <a:t>Holocaust, Police and Human Rights, Belgiu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47400" y="2937960"/>
            <a:ext cx="8574120" cy="31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5f604a"/>
                </a:solidFill>
                <a:latin typeface="Arial"/>
              </a:rPr>
              <a:t>Target population</a:t>
            </a: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: members of the integrated police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604a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5f604a"/>
                </a:solidFill>
                <a:latin typeface="Arial"/>
              </a:rPr>
              <a:t>Special attention</a:t>
            </a: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: Trainers recruited in the target population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4a"/>
                </a:solidFill>
                <a:latin typeface="Arial"/>
                <a:ea typeface="Segoe UI"/>
              </a:rPr>
              <a:t>Focus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  <a:ea typeface="Segoe UI"/>
              </a:rPr>
              <a:t>: “If you can recognize the slippery slope towards collective violence, you will be more willing to fight it.”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604a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5f604a"/>
                </a:solidFill>
                <a:latin typeface="Arial"/>
              </a:rPr>
              <a:t>Pedagogy</a:t>
            </a: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: Rememberance education as a key concept / cooper model applied to real life case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604a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Titel van de present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217D-BA7D-4974-971A-5BA8EDA2BA5F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|   pag. </a:t>
            </a:r>
            <a:fld id="{F651BFDD-9A4B-438F-9D13-7506A71453CA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Afbeelding 5" descr=""/>
          <p:cNvPicPr/>
          <p:nvPr/>
        </p:nvPicPr>
        <p:blipFill>
          <a:blip r:embed="rId1"/>
          <a:stretch/>
        </p:blipFill>
        <p:spPr>
          <a:xfrm>
            <a:off x="1368360" y="1825560"/>
            <a:ext cx="1522440" cy="881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KazerneDossin_logo_N"/>
          <p:cNvPicPr/>
          <p:nvPr/>
        </p:nvPicPr>
        <p:blipFill>
          <a:blip r:embed="rId2"/>
          <a:stretch/>
        </p:blipFill>
        <p:spPr>
          <a:xfrm>
            <a:off x="4059360" y="1717560"/>
            <a:ext cx="1152360" cy="1150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3"/>
          <a:stretch/>
        </p:blipFill>
        <p:spPr>
          <a:xfrm>
            <a:off x="6602400" y="1631880"/>
            <a:ext cx="132408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ffffff"/>
                </a:solidFill>
                <a:latin typeface="Arial"/>
              </a:rPr>
              <a:t>Main goals: fostering ethical competenc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The participant: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Understands discrimination and exclusion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Is aware of the scope to say NO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Has the skills to analyse a situation in an autonomous and critical way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604a"/>
                </a:solidFill>
                <a:latin typeface="Arial"/>
              </a:rPr>
              <a:t>Is motivated to react according to his or her own ethical conviction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22" name="Date Placeholder 3"/>
          <p:cNvSpPr/>
          <p:nvPr/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Titel van de present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DA17-8931-4CDB-BC18-E5EBCB74DEBE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|   pag. </a:t>
            </a:r>
            <a:fld id="{733731DB-195B-4F68-96B5-892596B2279A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Titel van de present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8F5E-C5F4-4F88-8AEF-BF3A277691F8}" type="datetime">
              <a:rPr b="0" lang="nl-BE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   |   pag. </a:t>
            </a:r>
            <a:fld id="{5291D1ED-5D39-4AA7-B250-B1A6130288F2}" type="slidenum">
              <a:rPr b="0" lang="nl-B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kstvak 6"/>
          <p:cNvSpPr/>
          <p:nvPr/>
        </p:nvSpPr>
        <p:spPr>
          <a:xfrm>
            <a:off x="331920" y="2050920"/>
            <a:ext cx="356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7f73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7f7358"/>
                </a:solidFill>
                <a:latin typeface="Arial"/>
              </a:rPr>
              <a:t>08.30 – 09.15</a:t>
            </a:r>
            <a:br>
              <a:rPr sz="2400"/>
            </a:br>
            <a:r>
              <a:rPr b="0" lang="nl-BE" sz="2400" spc="-1" strike="noStrike">
                <a:solidFill>
                  <a:srgbClr val="7f7358"/>
                </a:solidFill>
                <a:latin typeface="Arial"/>
              </a:rPr>
              <a:t>Introduction (fil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7f73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7f7358"/>
                </a:solidFill>
                <a:latin typeface="Arial"/>
              </a:rPr>
              <a:t>09.15 – 12.00</a:t>
            </a:r>
            <a:br>
              <a:rPr sz="2400"/>
            </a:br>
            <a:r>
              <a:rPr b="0" lang="nl-BE" sz="2400" spc="-1" strike="noStrike">
                <a:solidFill>
                  <a:srgbClr val="7f7358"/>
                </a:solidFill>
                <a:latin typeface="Arial"/>
              </a:rPr>
              <a:t>Visit museum and memo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7f73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7f7358"/>
                </a:solidFill>
                <a:latin typeface="Arial"/>
              </a:rPr>
              <a:t>12.00 – 13.00</a:t>
            </a:r>
            <a:br>
              <a:rPr sz="2400"/>
            </a:br>
            <a:r>
              <a:rPr b="0" lang="nl-BE" sz="2400" spc="-1" strike="noStrike">
                <a:solidFill>
                  <a:srgbClr val="7f7358"/>
                </a:solidFill>
                <a:latin typeface="Arial"/>
              </a:rPr>
              <a:t>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7f73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7f7358"/>
                </a:solidFill>
                <a:latin typeface="Arial"/>
              </a:rPr>
              <a:t>13.00 – 16.30</a:t>
            </a:r>
            <a:br>
              <a:rPr sz="2400"/>
            </a:br>
            <a:r>
              <a:rPr b="0" lang="nl-BE" sz="2400" spc="-1" strike="noStrike">
                <a:solidFill>
                  <a:srgbClr val="7f7358"/>
                </a:solidFill>
                <a:latin typeface="Arial"/>
              </a:rPr>
              <a:t>Debriefing visit 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7f7358"/>
                </a:solidFill>
                <a:latin typeface="Arial"/>
              </a:rPr>
              <a:t>    </a:t>
            </a:r>
            <a:r>
              <a:rPr b="0" lang="nl-BE" sz="2400" spc="-1" strike="noStrike">
                <a:solidFill>
                  <a:srgbClr val="7f7358"/>
                </a:solidFill>
                <a:latin typeface="Arial"/>
              </a:rPr>
              <a:t>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7f7358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3708360" y="2050920"/>
            <a:ext cx="51134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7:39:43Z</dcterms:created>
  <dc:creator>Anton Derks</dc:creator>
  <dc:description/>
  <dc:language>en-US</dc:language>
  <cp:lastModifiedBy>Isabelle Diependaele</cp:lastModifiedBy>
  <cp:lastPrinted>2017-11-05T13:22:43Z</cp:lastPrinted>
  <dcterms:modified xsi:type="dcterms:W3CDTF">2017-12-11T15:06:11Z</dcterms:modified>
  <cp:revision>154</cp:revision>
  <dc:subject/>
  <dc:title>Titel van de presentatie</dc:title>
</cp:coreProperties>
</file>